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B21B-EA42-4E8C-83FA-22F5DFDDDF8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BD26-FA7A-4284-BD66-7B130CC2D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9F96-FFB0-4D21-9A39-1ADC21B9ECE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2905-E0FE-4181-83A7-F683FA479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794855-095D-489D-878E-52B30CB16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9886DC-773E-4455-811C-B79464CABB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448D040-0A6F-4B3D-A8E0-6A9F82A079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716CFCE-A757-4738-84A6-962415FF63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CA4E512-3606-4ADA-9482-2C1544B222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A222CA0-4F08-4726-B8B2-DEC882B9E3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255C157-9377-46DE-A7B0-253BA4A078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17684A3-D7B5-4C0F-ABC6-BC8AF0D314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E4899BD-795C-4451-8EEE-425C45EE30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8C41087-16B4-4D9F-A01F-29912C40B5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BEE8331-7C21-46DC-BF8F-4A1943BA26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CB803B-D172-443D-8208-F949BD8C57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30E8577-C560-4E9D-837C-0C6F7193EF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FB4A3FF-D421-443B-A356-E4AFF2A2E0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951940E-9602-44B3-A6CB-F62C30B913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E93D64B-0E91-4B95-90FC-CD4B78A46E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5324CF6-D108-486F-8F1D-7EC52C9734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408FD5-09D9-4BB8-8F31-B2C7456DD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37FC7E1-0636-4DF3-9EB7-E3667A263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F11B048-4CBD-4C53-B906-837E827C8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C13D28-A0E9-4378-B1B7-5E6EAF4E2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E6C2C1-4CB3-4551-BD56-DBE484FCD9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17E7FB-9743-475E-8ADC-73C052876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7CAF88-F66D-4407-84B2-68E788802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C7BB9A4-2F92-4BED-A07C-AD719D3B524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6E2822F-32F9-4DEB-B002-A4D5C7A7D99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CDB68E9-7438-4A8E-8D26-4BC6D1A121B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2057040" y="152280"/>
            <a:ext cx="525780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2</a:t>
            </a:r>
            <a:br>
              <a:rPr sz="3600"/>
            </a:br>
            <a:r>
              <a:rPr b="0" lang="en-US" sz="3600" spc="-1" strike="noStrike">
                <a:solidFill>
                  <a:srgbClr val="ff0000"/>
                </a:solidFill>
                <a:latin typeface="Times New Roman"/>
              </a:rPr>
              <a:t>Employment Law</a:t>
            </a:r>
            <a:endParaRPr b="0" lang="en-US" sz="3600" spc="-1" strike="noStrike">
              <a:solidFill>
                <a:srgbClr val="000066"/>
              </a:solidFill>
              <a:latin typeface="Arial"/>
            </a:endParaRPr>
          </a:p>
        </p:txBody>
      </p:sp>
      <p:sp>
        <p:nvSpPr>
          <p:cNvPr id="110" name="TextBox 2"/>
          <p:cNvSpPr/>
          <p:nvPr/>
        </p:nvSpPr>
        <p:spPr>
          <a:xfrm>
            <a:off x="281160" y="1295280"/>
            <a:ext cx="8534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Waggenseller began working at Scottsdale Memorial Hospital and was promoted several times during the course of her employment. Her evaluations were good, and it appeared as if she was well liked and got along with everyone. She was invited on an 8‐day rafting and camping trip with coworkers which she accepted. During the trip, her co‐workers acted in what she considered to be an obnoxious fashion, and she refused to participate. When the trip was over and she returned to work, the attitude of her co‐workers, including her supervisor, became hostile, and she claims they began embarrassing her and became abusive. Other staff noticed a change also. Her supervisor then terminated Waggenseller. Waggenseller sued the hospital for unjust dismissal. Does Waggenseller have any chance of winning? Explain. </a:t>
            </a:r>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489A36D-239E-4CAA-AB97-9556B209790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4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minor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aw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law</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those injured by employees</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380520"/>
            <a:ext cx="8305920" cy="5867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lain the special duties owed to minors. What principles are these duties based on?</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state and federal governments have special regulations protecting minors who work from working overextended hours and in dangerous working conditions. </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federal  and state laws vary they are all based on the following principles: </a:t>
            </a:r>
            <a:endParaRPr b="0" lang="en-US" sz="18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 person’s early years are best used to obtain an edu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Certain work is harmful or dangerous for young people.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Child labor at low wages takes jobs from adult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some states have  child labor laws that:</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set the maximum number of working hours in one day that a minor can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prohibit night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ecide what grade a child must have completed in school prior to being able to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set the required age for certain hazardous occupations, and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restrict the hours of work to between 5 in the morning and 10 in the evening</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36F10E6-3B2A-4C73-BEF5-384B7B620AA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52280" y="228240"/>
            <a:ext cx="8839440" cy="6172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 general, when is the employer liable for injury caused by employees?</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mployer is liable if an employee, acting within the scope of employment, commits a tort, whether the employer specifically authorized the act or not.</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9685629-69C6-4872-B298-B1E6DE87D5C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A2671E99-3B2C-4BE0-9258-4341A69B767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5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E’S DUTIES?</a:t>
            </a:r>
            <a:endParaRPr b="0" lang="en-US" sz="3600" spc="-1" strike="noStrike">
              <a:solidFill>
                <a:srgbClr val="0000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to fulfill the employment contract</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obedie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skill</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loyalty and hones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performance</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Explain the duties of an employee.</a:t>
            </a:r>
            <a:br>
              <a:rPr sz="3600"/>
            </a:br>
            <a:endParaRPr b="0" lang="en-US" sz="3600" spc="-1" strike="noStrike">
              <a:solidFill>
                <a:srgbClr val="000066"/>
              </a:solidFill>
              <a:latin typeface="Arial"/>
            </a:endParaRPr>
          </a:p>
        </p:txBody>
      </p:sp>
      <p:sp>
        <p:nvSpPr>
          <p:cNvPr id="157" name=""/>
          <p:cNvSpPr txBox="1"/>
          <p:nvPr/>
        </p:nvSpPr>
        <p:spPr>
          <a:xfrm>
            <a:off x="304920" y="685800"/>
            <a:ext cx="8610480" cy="41148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uties of an employee towards his or her employer are: </a:t>
            </a:r>
            <a:endParaRPr b="0" lang="en-US" sz="20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fulfill the express terms of the employment contract and other implied agreements made with the employer</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obey the reasonable orders and rules of the employer whether or not the employee has expressly agreed to do so</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ossess the skill, experience, or knowledge to do the wor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look out for the employer’s best interest</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erform the job tasks assigned to him or her with competence.</a:t>
            </a: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8886F08-5F52-4C15-BAB9-0942EA981A2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EAE3817-4278-4424-848E-3B9B451F8F4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e that you and your employer are parties to a contract in which you both have rights and du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you go to work, learn as much as you can about the job. Find out about hours, pay, duties, dress, fringe benefits, and any other related matte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ardiness and absenteeism.</a:t>
            </a:r>
            <a:endParaRPr b="0" lang="en-US" sz="2400" spc="-1" strike="noStrike">
              <a:solidFill>
                <a:srgbClr val="000000"/>
              </a:solidFill>
              <a:latin typeface="Arial"/>
            </a:endParaRPr>
          </a:p>
        </p:txBody>
      </p:sp>
      <p:sp>
        <p:nvSpPr>
          <p:cNvPr id="164"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371F359-69DA-4F47-997A-72516322F39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in addition to reasonable skill and performance, you owe your employer loyalty, honesty, and obedience. However, the duty of obedience does not require employees to engage in illegal, immoral, or unsafe activi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you are personally responsible for your own negligent acts. This is true even though the injured party may also be able to recover from your employer.</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3FC61C8-A621-453D-A959-FA609C7FFC1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treat your employees reasonably and provide them with safe working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and comply with applicable federal and state laws governing the work environment.</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vicarious liability for the potentially tortious acts of your employees by training them properly, especially if they have immediate contact with the general public.</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99072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even though Waggenseller is an at‐will employee, she may not be terminated for bad cause. Waggenseller was essentially terminated for her refusal to commit an act that might violate the law and that the court refused to uphold such a termination.</a:t>
            </a:r>
            <a:endParaRPr b="0" lang="en-US" sz="3200" spc="-1" strike="noStrike">
              <a:solidFill>
                <a:srgbClr val="000000"/>
              </a:solidFill>
              <a:latin typeface="Arial"/>
            </a:endParaRPr>
          </a:p>
        </p:txBody>
      </p:sp>
      <p:sp>
        <p:nvSpPr>
          <p:cNvPr id="11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82B6E42-7530-4C4B-8886-7BACC70214B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E6FE814-522F-443A-BE98-DE275E57392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228600"/>
            <a:ext cx="7772400" cy="99072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22-1</a:t>
            </a:r>
            <a:r>
              <a:rPr b="1" lang="en-US" sz="3200" spc="-1" strike="noStrike">
                <a:solidFill>
                  <a:srgbClr val="000066"/>
                </a:solidFill>
                <a:latin typeface="Arial"/>
              </a:rPr>
              <a:t>	</a:t>
            </a:r>
            <a:r>
              <a:rPr b="0" lang="en-US" sz="3200" spc="-1" strike="noStrike">
                <a:solidFill>
                  <a:srgbClr val="000066"/>
                </a:solidFill>
                <a:latin typeface="Arial"/>
              </a:rPr>
              <a:t>Making and Terminating Employment Contracts</a:t>
            </a:r>
            <a:endParaRPr b="0" lang="en-US" sz="3200" spc="-1" strike="noStrike">
              <a:solidFill>
                <a:srgbClr val="000066"/>
              </a:solidFill>
              <a:latin typeface="Arial"/>
            </a:endParaRPr>
          </a:p>
        </p:txBody>
      </p:sp>
      <p:sp>
        <p:nvSpPr>
          <p:cNvPr id="117" name="PlaceHolder 2"/>
          <p:cNvSpPr>
            <a:spLocks noGrp="1"/>
          </p:cNvSpPr>
          <p:nvPr>
            <p:ph/>
          </p:nvPr>
        </p:nvSpPr>
        <p:spPr>
          <a:xfrm>
            <a:off x="228600" y="1219320"/>
            <a:ext cx="8610480" cy="4876560"/>
          </a:xfrm>
          <a:prstGeom prst="rect">
            <a:avLst/>
          </a:prstGeom>
          <a:noFill/>
          <a:ln w="0">
            <a:noFill/>
          </a:ln>
        </p:spPr>
        <p:txBody>
          <a:bodyPr anchor="t">
            <a:normAutofit/>
          </a:bodyPr>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a:t>
            </a:r>
            <a:r>
              <a:rPr b="0" lang="en-US" sz="2000" spc="-1" strike="noStrike">
                <a:solidFill>
                  <a:srgbClr val="000000"/>
                </a:solidFill>
                <a:latin typeface="TimesNewRoman"/>
              </a:rPr>
              <a:t> </a:t>
            </a:r>
            <a:r>
              <a:rPr b="0" i="1" lang="en-US" sz="2000" spc="-1" strike="noStrike">
                <a:solidFill>
                  <a:srgbClr val="000000"/>
                </a:solidFill>
                <a:latin typeface="TimesNewRoman,BoldItalic"/>
              </a:rPr>
              <a:t>A contractual relationship in which one party engages another to work for pay under the supervision of the party paying.</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r </a:t>
            </a:r>
            <a:r>
              <a:rPr b="0" i="1" lang="en-US" sz="2000" spc="-1" strike="noStrike">
                <a:solidFill>
                  <a:srgbClr val="000000"/>
                </a:solidFill>
                <a:latin typeface="TimesNewRoman,BoldItalic"/>
              </a:rPr>
              <a:t>A party who engages another to work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e</a:t>
            </a:r>
            <a:r>
              <a:rPr b="0" lang="en-US" sz="2000" spc="-1" strike="noStrike">
                <a:solidFill>
                  <a:srgbClr val="000000"/>
                </a:solidFill>
                <a:latin typeface="TimesNewRoman"/>
              </a:rPr>
              <a:t> </a:t>
            </a:r>
            <a:r>
              <a:rPr b="0" i="1" lang="en-US" sz="2000" spc="-1" strike="noStrike">
                <a:solidFill>
                  <a:srgbClr val="000000"/>
                </a:solidFill>
                <a:latin typeface="TimesNewRoman,BoldItalic"/>
              </a:rPr>
              <a:t>A party who works under the supervision of another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Independent contractor </a:t>
            </a:r>
            <a:r>
              <a:rPr b="0" i="1" lang="en-US" sz="2000" spc="-1" strike="noStrike">
                <a:solidFill>
                  <a:srgbClr val="000000"/>
                </a:solidFill>
                <a:latin typeface="TimesNewRoman,BoldItalic"/>
              </a:rPr>
              <a:t>One who contracts to do something for another but is free of the latter’s direction and control.</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 at will </a:t>
            </a:r>
            <a:r>
              <a:rPr b="0" i="1" lang="en-US" sz="2000" spc="-1" strike="noStrike">
                <a:solidFill>
                  <a:srgbClr val="000000"/>
                </a:solidFill>
                <a:latin typeface="TimesNewRoman,BoldItalic"/>
              </a:rPr>
              <a:t>An employment relationship whereby the employee may be discharged at any time because no agreement was made about length of employment; alternately, the employee may quit the job at any time without liability for breach of contract.</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rongful discharge </a:t>
            </a:r>
            <a:r>
              <a:rPr b="0" i="1" lang="en-US" sz="2000" spc="-1" strike="noStrike">
                <a:solidFill>
                  <a:srgbClr val="000000"/>
                </a:solidFill>
                <a:latin typeface="TimesNewRoman,BoldItalic"/>
              </a:rPr>
              <a:t>When an employer terminates an employee without cause.</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
              </a:rPr>
              <a:t>7. </a:t>
            </a:r>
            <a:r>
              <a:rPr b="1" lang="en-US" sz="2000" spc="-1" strike="noStrike">
                <a:solidFill>
                  <a:srgbClr val="000000"/>
                </a:solidFill>
                <a:latin typeface="TimesNewRoman"/>
              </a:rPr>
              <a:t>Discharged without cause </a:t>
            </a:r>
            <a:r>
              <a:rPr b="0" i="1" lang="en-US" sz="2000" spc="-1" strike="noStrike">
                <a:solidFill>
                  <a:srgbClr val="000000"/>
                </a:solidFill>
                <a:latin typeface="TimesNewRoman,BoldItalic"/>
              </a:rPr>
              <a:t>The cause of an employee’s termination was not the employee’s conduct.</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51920" y="228600"/>
            <a:ext cx="8991720" cy="594360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mployment compensation </a:t>
            </a:r>
            <a:r>
              <a:rPr b="0" i="1" lang="en-US" sz="2000" spc="-1" strike="noStrike">
                <a:solidFill>
                  <a:srgbClr val="000000"/>
                </a:solidFill>
                <a:latin typeface="Arial"/>
              </a:rPr>
              <a:t>Money paid by government or private insurance funds to workers who have lost their jobs through no fault of their ow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harged for cause </a:t>
            </a:r>
            <a:r>
              <a:rPr b="0" i="1" lang="en-US" sz="2000" spc="-1" strike="noStrike">
                <a:solidFill>
                  <a:srgbClr val="000000"/>
                </a:solidFill>
                <a:latin typeface="Arial"/>
              </a:rPr>
              <a:t>An employee is terminated because he or she violated an employment obligatio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en does an employment contract exis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ployment contract exists when the employer and the employee have an agreement in which the employer pays an employee to do work under the employer’s supervision and control.</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are the four </a:t>
            </a:r>
            <a:r>
              <a:rPr b="1" i="1" lang="en-US" sz="2000" spc="-1" strike="noStrike" u="sng">
                <a:solidFill>
                  <a:srgbClr val="000000"/>
                </a:solidFill>
                <a:uFillTx/>
                <a:latin typeface="Arial"/>
              </a:rPr>
              <a:t>unlawful </a:t>
            </a:r>
            <a:r>
              <a:rPr b="1" lang="en-US" sz="2000" spc="-1" strike="noStrike" u="sng">
                <a:solidFill>
                  <a:srgbClr val="000000"/>
                </a:solidFill>
                <a:uFillTx/>
                <a:latin typeface="Arial"/>
              </a:rPr>
              <a:t>reasons for termination in which an employer commits a tor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employer fires an employee fo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fusal to commit perjury at the request of the company</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sisting on filing a worker’s compensation claim</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porting violations of the law by the company, 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urging the company to comply with the law, the employer is committing the tort of wrongful discharge.</a:t>
            </a:r>
            <a:endParaRPr b="0" lang="en-US" sz="2000" spc="-1" strike="noStrike">
              <a:solidFill>
                <a:srgbClr val="000000"/>
              </a:solidFill>
              <a:latin typeface="Arial"/>
            </a:endParaRPr>
          </a:p>
        </p:txBody>
      </p:sp>
      <p:sp>
        <p:nvSpPr>
          <p:cNvPr id="11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5360996-A991-4307-925B-0AF76B8D1AF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B16B92D-3695-4FC4-9334-06E69C39B2F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3" name="PlaceHolder 1"/>
          <p:cNvSpPr>
            <a:spLocks noGrp="1"/>
          </p:cNvSpPr>
          <p:nvPr>
            <p:ph type="title"/>
          </p:nvPr>
        </p:nvSpPr>
        <p:spPr>
          <a:xfrm>
            <a:off x="609480" y="228600"/>
            <a:ext cx="7772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MADE?</a:t>
            </a:r>
            <a:endParaRPr b="0" lang="en-US" sz="2000" spc="-1" strike="noStrike">
              <a:solidFill>
                <a:srgbClr val="000066"/>
              </a:solidFill>
              <a:latin typeface="Arial"/>
            </a:endParaRPr>
          </a:p>
        </p:txBody>
      </p:sp>
      <p:sp>
        <p:nvSpPr>
          <p:cNvPr id="124" name="PlaceHolder 2"/>
          <p:cNvSpPr>
            <a:spLocks noGrp="1"/>
          </p:cNvSpPr>
          <p:nvPr>
            <p:ph/>
          </p:nvPr>
        </p:nvSpPr>
        <p:spPr>
          <a:xfrm>
            <a:off x="-4680" y="609480"/>
            <a:ext cx="8991360" cy="55627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the employment contract</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 agreements-</a:t>
            </a:r>
            <a:r>
              <a:rPr b="0" lang="en-US" sz="2400" spc="-1" strike="noStrike">
                <a:solidFill>
                  <a:srgbClr val="000000"/>
                </a:solidFill>
                <a:latin typeface="Arial"/>
              </a:rPr>
              <a:t>oral</a:t>
            </a:r>
            <a:r>
              <a:rPr b="1" lang="en-US" sz="2400" spc="-1" strike="noStrike">
                <a:solidFill>
                  <a:srgbClr val="000000"/>
                </a:solidFill>
                <a:latin typeface="Arial"/>
              </a:rPr>
              <a:t> </a:t>
            </a:r>
            <a:r>
              <a:rPr b="0" lang="en-US" sz="2400" spc="-1" strike="noStrike">
                <a:solidFill>
                  <a:srgbClr val="000000"/>
                </a:solidFill>
                <a:latin typeface="Arial"/>
              </a:rPr>
              <a:t>or written document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are used with sports professionals, entertainers, top-level manager, and union members (a party who violates an express term is liable for breach of contract)</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ress contracts are partly written and partly oral</a:t>
            </a:r>
            <a:endParaRPr b="0" lang="en-US" sz="20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nge benefits</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job</a:t>
            </a:r>
            <a:endParaRPr b="0" lang="en-US" sz="1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ied agreements-</a:t>
            </a:r>
            <a:r>
              <a:rPr b="0" lang="en-US" sz="2400" spc="-1" strike="noStrike">
                <a:solidFill>
                  <a:srgbClr val="000000"/>
                </a:solidFill>
                <a:latin typeface="Arial"/>
              </a:rPr>
              <a:t>hiring of hourly worker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under doctrine of employment at will</a:t>
            </a:r>
            <a:endParaRPr b="0" lang="en-US" sz="20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imposed by law- </a:t>
            </a:r>
            <a:r>
              <a:rPr b="0" lang="en-US" sz="2400" spc="-1" strike="noStrike">
                <a:solidFill>
                  <a:srgbClr val="000000"/>
                </a:solidFill>
                <a:latin typeface="Arial"/>
              </a:rPr>
              <a:t>State or Federal law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wage</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imination </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BADF0ED-5B56-44BB-9EEB-4A79A140E8B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7" name="PlaceHolder 1"/>
          <p:cNvSpPr>
            <a:spLocks noGrp="1"/>
          </p:cNvSpPr>
          <p:nvPr>
            <p:ph type="title"/>
          </p:nvPr>
        </p:nvSpPr>
        <p:spPr>
          <a:xfrm>
            <a:off x="609480" y="30492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TERMINATED?</a:t>
            </a:r>
            <a:endParaRPr b="0" lang="en-US" sz="2000" spc="-1" strike="noStrike">
              <a:solidFill>
                <a:srgbClr val="000066"/>
              </a:solidFill>
              <a:latin typeface="Arial"/>
            </a:endParaRPr>
          </a:p>
        </p:txBody>
      </p:sp>
      <p:sp>
        <p:nvSpPr>
          <p:cNvPr id="128" name="PlaceHolder 2"/>
          <p:cNvSpPr>
            <a:spLocks noGrp="1"/>
          </p:cNvSpPr>
          <p:nvPr>
            <p:ph/>
          </p:nvPr>
        </p:nvSpPr>
        <p:spPr>
          <a:xfrm>
            <a:off x="304560" y="838080"/>
            <a:ext cx="8458200" cy="51055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perform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termination at wi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ful dischar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ation of contract term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employees-must be given notice along with a hearing ( more difficult to discharge public employees)</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terial breach</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 compensation</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7A9ED08-0FA0-45B5-BB0E-16653A5EBFF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0666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2-2</a:t>
            </a:r>
            <a:r>
              <a:rPr b="0" lang="en-US" sz="3600" spc="-1" strike="noStrike">
                <a:solidFill>
                  <a:srgbClr val="000066"/>
                </a:solidFill>
                <a:latin typeface="Arial"/>
              </a:rPr>
              <a:t>	</a:t>
            </a:r>
            <a:r>
              <a:rPr b="0" lang="en-US" sz="3600" spc="-1" strike="noStrike">
                <a:solidFill>
                  <a:srgbClr val="000066"/>
                </a:solidFill>
                <a:latin typeface="Arial"/>
              </a:rPr>
              <a:t>Duties of Employers </a:t>
            </a:r>
            <a:br>
              <a:rPr sz="3600"/>
            </a:br>
            <a:r>
              <a:rPr b="0" lang="en-US" sz="3600" spc="-1" strike="noStrike">
                <a:solidFill>
                  <a:srgbClr val="000066"/>
                </a:solidFill>
                <a:latin typeface="Arial"/>
              </a:rPr>
              <a:t>and Employees</a:t>
            </a:r>
            <a:endParaRPr b="0" lang="en-US" sz="3600" spc="-1" strike="noStrike">
              <a:solidFill>
                <a:srgbClr val="000066"/>
              </a:solidFill>
              <a:latin typeface="Arial"/>
            </a:endParaRPr>
          </a:p>
        </p:txBody>
      </p:sp>
      <p:sp>
        <p:nvSpPr>
          <p:cNvPr id="132" name="PlaceHolder 2"/>
          <p:cNvSpPr>
            <a:spLocks noGrp="1"/>
          </p:cNvSpPr>
          <p:nvPr>
            <p:ph/>
          </p:nvPr>
        </p:nvSpPr>
        <p:spPr>
          <a:xfrm>
            <a:off x="0" y="1371240"/>
            <a:ext cx="8834400" cy="4876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ROLL DEDUCTIONS </a:t>
            </a:r>
            <a:r>
              <a:rPr b="0" lang="en-US" sz="2000" spc="-1" strike="noStrike">
                <a:solidFill>
                  <a:srgbClr val="000000"/>
                </a:solidFill>
                <a:latin typeface="Arial"/>
              </a:rPr>
              <a:t>Money deducted from an employee’s paycheck.</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ERS’ COMPENSATION </a:t>
            </a:r>
            <a:r>
              <a:rPr b="0" lang="en-US" sz="2000" spc="-1" strike="noStrike">
                <a:solidFill>
                  <a:srgbClr val="000000"/>
                </a:solidFill>
                <a:latin typeface="Arial"/>
              </a:rPr>
              <a:t>A payment to an insurance fund that compensates employees for injuries on the job.</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OBEDIENCE </a:t>
            </a:r>
            <a:r>
              <a:rPr b="0" lang="en-US" sz="2000" spc="-1" strike="noStrike">
                <a:solidFill>
                  <a:srgbClr val="000000"/>
                </a:solidFill>
                <a:latin typeface="Arial"/>
              </a:rPr>
              <a:t>An employee’s duty to obey the reasonable orders and rules of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SKILL </a:t>
            </a:r>
            <a:r>
              <a:rPr b="0" lang="en-US" sz="2000" spc="-1" strike="noStrike">
                <a:solidFill>
                  <a:srgbClr val="000000"/>
                </a:solidFill>
                <a:latin typeface="Arial"/>
              </a:rPr>
              <a:t>An employee’s duty to possess the skill, experience, or knowledge necessary to do the work accepted.</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LOYALTY AND HONESTY </a:t>
            </a:r>
            <a:r>
              <a:rPr b="0" lang="en-US" sz="2000" spc="-1" strike="noStrike">
                <a:solidFill>
                  <a:srgbClr val="000000"/>
                </a:solidFill>
                <a:latin typeface="Arial"/>
              </a:rPr>
              <a:t>An employee’s duty to look out for the employer’s best interest.</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PERFORMANCE </a:t>
            </a:r>
            <a:r>
              <a:rPr b="0" lang="en-US" sz="2000" spc="-1" strike="noStrike">
                <a:solidFill>
                  <a:srgbClr val="000000"/>
                </a:solidFill>
                <a:latin typeface="Arial"/>
              </a:rPr>
              <a:t>An employee’s duty to perform assigned duties at the prescribed time and in the prescribed manner.</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5C747F2-4BE1-41A9-B61A-95598C97469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employee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treatment</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working condi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labor standard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roll deduc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ervi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nd medical leaves</a:t>
            </a:r>
            <a:endParaRPr b="0" lang="en-US" sz="2400" spc="-1" strike="noStrike">
              <a:solidFill>
                <a:srgbClr val="000000"/>
              </a:solidFill>
              <a:latin typeface="Arial"/>
            </a:endParaRPr>
          </a:p>
        </p:txBody>
      </p:sp>
      <p:sp>
        <p:nvSpPr>
          <p:cNvPr id="137" name="Text Box 10"/>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escribe the duties of an employer.</a:t>
            </a:r>
            <a:br>
              <a:rPr sz="3600"/>
            </a:br>
            <a:endParaRPr b="0" lang="en-US" sz="3600" spc="-1" strike="noStrike">
              <a:solidFill>
                <a:srgbClr val="000066"/>
              </a:solidFill>
              <a:latin typeface="Arial"/>
            </a:endParaRPr>
          </a:p>
        </p:txBody>
      </p:sp>
      <p:sp>
        <p:nvSpPr>
          <p:cNvPr id="139" name=""/>
          <p:cNvSpPr txBox="1"/>
          <p:nvPr/>
        </p:nvSpPr>
        <p:spPr>
          <a:xfrm>
            <a:off x="304920" y="533160"/>
            <a:ext cx="8534160" cy="6019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duty to treat employees in a reasonable manne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n employer must provide his or her employees with a safe working environment, including safe tools, equipment, machinery, and the building itsel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l employers under the jurisdiction of the Fair Labor Standards Act must not demand more than 40 hours of regular rate pay per week. If more than 40 hours are worked in one week, overtime must be paid at a rate of one and a half times the employee’s regular hourly ra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ayroll deductions paid to the government by the employer to cover federal and state income tax obligations, social security, and insuranc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e Military Selective Service Act of 1950 requires employers to re-employ workers after an honorable discharge from military service. All persons who have been drafted, enlisted, or called to active duty from the reserves will receive this protection.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600" spc="-1" strike="noStrike">
                <a:solidFill>
                  <a:srgbClr val="000000"/>
                </a:solidFill>
                <a:latin typeface="Arial"/>
              </a:rPr>
              <a:t>More than one-half of the states require that workers be given time off with pay at a tim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ient to the employer to vote in regular, primary, and general elections.</a:t>
            </a:r>
            <a:endParaRPr b="0" lang="en-US" sz="1600" spc="-1" strike="noStrike">
              <a:solidFill>
                <a:srgbClr val="000000"/>
              </a:solidFill>
              <a:latin typeface="Arial"/>
            </a:endParaRPr>
          </a:p>
        </p:txBody>
      </p:sp>
      <p:sp>
        <p:nvSpPr>
          <p:cNvPr id="14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DE92A8A-2E53-4D1E-AE39-D9B23AA9BC3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3:11Z</dcterms:created>
  <dc:creator>M. C. McLaughlin</dc:creator>
  <dc:description/>
  <dc:language>en-US</dc:language>
  <cp:lastModifiedBy>Linda Christensen</cp:lastModifiedBy>
  <dcterms:modified xsi:type="dcterms:W3CDTF">2012-12-12T17:28:47Z</dcterms:modified>
  <cp:revision>23</cp:revision>
  <dc:subject/>
  <dc:title>CHAPTER 21 Employment Law</dc:title>
</cp:coreProperties>
</file>