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FC4B-85B5-40D0-A0AD-C91BE2CA247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A24C-C542-47B6-BFF4-F1DE02D95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4EC4-B4DF-4CCA-912A-61C0DE72DE7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2C97-B6C4-46A4-AD34-580247314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0FB59AE-D37C-4A37-A07A-BC63D7FB3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570D1A-2386-4020-B9AA-CAC34A4E7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9D6320-6B55-4E77-9004-7EBC7D7244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3BD881-AA35-4F43-A73B-36403F405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AC99A00-7FFA-483C-A62A-10256C26FA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825057F-4965-4D4E-ABBE-8AEFAFEC7A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1B70BB0-4873-4EB4-BA01-8C503865C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7FE6D4C-683F-45B9-B44F-4A47692ABC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40CCB8A-D463-4F17-BAF1-F31F23BFCF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DAD9DBC-5A84-4C6A-A128-E5A220C74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3F80200-A079-4277-B2D0-54E1D7D72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83C20E-8DBD-4B35-8921-65695C129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C77119C-2644-4143-BC86-CC00B86567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6BD630-8676-4AC5-851A-A4EC5113F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5A482B0-89B8-4D7C-8BC0-482DE04BF5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FA9EE9C-EE30-499E-955A-23923F015D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3214B15-F278-47A9-B5F8-1E938D1C2C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715094B-C4D4-4549-A8B0-FE8E346DC1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031C18-948F-4BBC-B770-09E2AA9016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7CF3C0E-C3E2-4625-99E5-069E92600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997AE2-323C-445C-8FD6-E9C3D53BC3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A7E107-2259-4471-94F0-419DC92C8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39E856-5ACE-48CF-ACC8-593C67E964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2AA72C-5080-44B2-8B02-5810C8B82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C7D3BB6-2679-4387-8CD9-51AF76856DA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AFE0A47-C73C-4C62-AB06-799F5656C74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DE09C54-DB47-4EEE-AC1B-EDFF612649A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533160" y="1294920"/>
            <a:ext cx="80010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4</a:t>
            </a:r>
            <a:br>
              <a:rPr sz="3600"/>
            </a:br>
            <a:r>
              <a:rPr b="0" lang="en-US" sz="3600" spc="-1" strike="noStrike">
                <a:solidFill>
                  <a:srgbClr val="ff0000"/>
                </a:solidFill>
                <a:latin typeface="Times New Roman"/>
              </a:rPr>
              <a:t>Discrimination in Employment-</a:t>
            </a:r>
            <a:r>
              <a:rPr b="0" lang="en-US" sz="2000" spc="-1" strike="noStrike">
                <a:solidFill>
                  <a:srgbClr val="ff0000"/>
                </a:solidFill>
                <a:latin typeface="Times New Roman"/>
              </a:rPr>
              <a:t>This</a:t>
            </a:r>
            <a:r>
              <a:rPr b="0" lang="en-US" sz="3600" spc="-1" strike="noStrike">
                <a:solidFill>
                  <a:srgbClr val="ff0000"/>
                </a:solidFill>
                <a:latin typeface="Times New Roman"/>
              </a:rPr>
              <a:t> </a:t>
            </a:r>
            <a:r>
              <a:rPr b="0" lang="en-US" sz="2000" spc="-1" strike="noStrike">
                <a:solidFill>
                  <a:srgbClr val="ff0000"/>
                </a:solidFill>
                <a:latin typeface="Times New Roman"/>
              </a:rPr>
              <a:t>chapter distinguishes legal from illegal discrimination and then sets out how a case involving alleged illegal discrimination is proven or defended against. </a:t>
            </a:r>
            <a:endParaRPr b="0" lang="en-US" sz="2000" spc="-1" strike="noStrike">
              <a:solidFill>
                <a:srgbClr val="000066"/>
              </a:solidFill>
              <a:latin typeface="Arial"/>
            </a:endParaRPr>
          </a:p>
        </p:txBody>
      </p:sp>
      <p:sp>
        <p:nvSpPr>
          <p:cNvPr id="110" name="PlaceHolder 2"/>
          <p:cNvSpPr>
            <a:spLocks noGrp="1"/>
          </p:cNvSpPr>
          <p:nvPr>
            <p:ph type="subTitle"/>
          </p:nvPr>
        </p:nvSpPr>
        <p:spPr>
          <a:xfrm>
            <a:off x="304920" y="2971800"/>
            <a:ext cx="815328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1</a:t>
            </a:r>
            <a:r>
              <a:rPr b="1" lang="en-US" sz="2800" spc="-1" strike="noStrike">
                <a:solidFill>
                  <a:srgbClr val="000066"/>
                </a:solidFill>
                <a:latin typeface="Arial"/>
              </a:rPr>
              <a:t>	</a:t>
            </a:r>
            <a:r>
              <a:rPr b="1" lang="en-US" sz="2800" spc="-1" strike="noStrike">
                <a:solidFill>
                  <a:srgbClr val="000066"/>
                </a:solidFill>
                <a:latin typeface="Arial"/>
              </a:rPr>
              <a:t>Legal versus Illegal Discrimination </a:t>
            </a:r>
            <a:r>
              <a:rPr b="0" lang="en-US" sz="2800" spc="-1" strike="noStrike">
                <a:solidFill>
                  <a:srgbClr val="000066"/>
                </a:solidFill>
                <a:latin typeface="Arial"/>
              </a:rPr>
              <a:t>(defines illegal discrimination and the laws that prohibit it)</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2</a:t>
            </a:r>
            <a:r>
              <a:rPr b="1" lang="en-US" sz="2800" spc="-1" strike="noStrike">
                <a:solidFill>
                  <a:srgbClr val="000066"/>
                </a:solidFill>
                <a:latin typeface="Arial"/>
              </a:rPr>
              <a:t>	</a:t>
            </a:r>
            <a:r>
              <a:rPr b="1" lang="en-US" sz="2800" spc="-1" strike="noStrike">
                <a:solidFill>
                  <a:srgbClr val="000066"/>
                </a:solidFill>
                <a:latin typeface="Arial"/>
              </a:rPr>
              <a:t>Proving Illegal Discrimination</a:t>
            </a:r>
            <a:r>
              <a:rPr b="0" lang="en-US" sz="2800" spc="-1" strike="noStrike">
                <a:solidFill>
                  <a:srgbClr val="000066"/>
                </a:solidFill>
                <a:latin typeface="Arial"/>
              </a:rPr>
              <a:t>(discusses</a:t>
            </a:r>
            <a:r>
              <a:rPr b="1" lang="en-US" sz="2800" spc="-1" strike="noStrike">
                <a:solidFill>
                  <a:srgbClr val="000066"/>
                </a:solidFill>
                <a:latin typeface="Arial"/>
              </a:rPr>
              <a:t> </a:t>
            </a:r>
            <a:r>
              <a:rPr b="0" lang="en-US" sz="2800" spc="-1" strike="noStrike">
                <a:solidFill>
                  <a:srgbClr val="000066"/>
                </a:solidFill>
                <a:latin typeface="Arial"/>
              </a:rPr>
              <a:t>the various types of discrimination cases and what defenses can be raised against such charge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9E508B3-495A-477B-8C07-9E5E8F707BB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UNEQUAL TREATMENT CASES</a:t>
            </a:r>
            <a:endParaRPr b="0" lang="en-US" sz="3600" spc="-1" strike="noStrike">
              <a:solidFill>
                <a:srgbClr val="0000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unequal treatment</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in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statistics</a:t>
            </a:r>
            <a:endParaRPr b="0" lang="en-US" sz="24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necess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a fide occupational qualification</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xts</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2B5FFEB-F039-4CEE-A5C9-D7AE5A37DE3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7"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in bases for unequal treatment cas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E5CACE0-A5ED-44E2-BBFD-45D2C423E0C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PARATE IMPACT CASES</a:t>
            </a:r>
            <a:endParaRPr b="0" lang="en-US" sz="3600" spc="-1" strike="noStrike">
              <a:solidFill>
                <a:srgbClr val="0000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tatistical proof</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2B81E11-A23D-4FC6-B732-57D1E654704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5" name="Rectangle 12"/>
          <p:cNvSpPr/>
          <p:nvPr/>
        </p:nvSpPr>
        <p:spPr>
          <a:xfrm>
            <a:off x="914400" y="2286000"/>
            <a:ext cx="69343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disparate impact mean?</a:t>
            </a:r>
            <a:endParaRPr b="0" lang="en-US" sz="3200" spc="-1" strike="noStrike">
              <a:solidFill>
                <a:srgbClr val="000000"/>
              </a:solidFill>
              <a:latin typeface="Times New Roman"/>
            </a:endParaRPr>
          </a:p>
        </p:txBody>
      </p:sp>
      <p:pic>
        <p:nvPicPr>
          <p:cNvPr id="156"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8223A2D-5AB6-43B5-8851-B025178B273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XUAL HARASSMENT CASES</a:t>
            </a:r>
            <a:endParaRPr b="0" lang="en-US" sz="3600" spc="-1" strike="noStrike">
              <a:solidFill>
                <a:srgbClr val="0000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d pro qu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le environment</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8E19493-32E6-4885-808C-47CD19CF5B1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2"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3"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wo forms of sexual harassment?</a:t>
            </a:r>
            <a:endParaRPr b="0" lang="en-US" sz="3200" spc="-1" strike="noStrike">
              <a:solidFill>
                <a:srgbClr val="000000"/>
              </a:solidFill>
              <a:latin typeface="Times New Roman"/>
            </a:endParaRPr>
          </a:p>
        </p:txBody>
      </p:sp>
      <p:pic>
        <p:nvPicPr>
          <p:cNvPr id="164"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91B8880-D6D2-4E69-940F-2BB7CFA2033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every job in a professional manner. Seek to be judged solely on the basis of your potential or actual job perform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reate an environment hostile to any protected cla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uspect that you are being discriminated against because of your membership in a protected class, contact the Equal Employment Opportunity Commission (EEOC).</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E7C8F09-435A-41E2-B181-31283C3EDA3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440" y="1981080"/>
            <a:ext cx="80010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on job applications that require the disclosure of race, religion, sex, national origin, handicap, or pregnancy status or intention.</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in job interviews about marital status, maternity plans, child care, birth control practices, number of children, or other related facto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upervisors to avoid any activity that could be taken as sexual harassment and to respond effectively to complaints about like conduct by subordinate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2B31DBF-C314-4E51-87AE-1618C345C36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 </a:t>
            </a:r>
            <a:r>
              <a:rPr b="1" lang="en-US" sz="1800" spc="-1" strike="noStrike">
                <a:solidFill>
                  <a:srgbClr val="000066"/>
                </a:solidFill>
                <a:latin typeface="Arial"/>
              </a:rPr>
              <a:t>Treating individual differently on certain basis</a:t>
            </a:r>
            <a:br>
              <a:rPr sz="1800"/>
            </a:br>
            <a:r>
              <a:rPr b="0" lang="en-US" sz="1800" spc="-1" strike="noStrike">
                <a:solidFill>
                  <a:srgbClr val="000066"/>
                </a:solidFill>
                <a:latin typeface="Arial"/>
              </a:rPr>
              <a:t>(the</a:t>
            </a:r>
            <a:r>
              <a:rPr b="1" lang="en-US" sz="1800" spc="-1" strike="noStrike">
                <a:solidFill>
                  <a:srgbClr val="000066"/>
                </a:solidFill>
                <a:latin typeface="Arial"/>
              </a:rPr>
              <a:t> </a:t>
            </a:r>
            <a:r>
              <a:rPr b="0" lang="en-US" sz="2000" spc="-1" strike="noStrike">
                <a:solidFill>
                  <a:srgbClr val="000066"/>
                </a:solidFill>
                <a:latin typeface="Arial"/>
              </a:rPr>
              <a:t>government has become involved in making sure that choices within the workplace are made on the proper bases and do not reflect illegal employment discrimination)</a:t>
            </a:r>
            <a:endParaRPr b="0" lang="en-US" sz="2000" spc="-1" strike="noStrike">
              <a:solidFill>
                <a:srgbClr val="000066"/>
              </a:solidFill>
              <a:latin typeface="Arial"/>
            </a:endParaRPr>
          </a:p>
        </p:txBody>
      </p:sp>
      <p:sp>
        <p:nvSpPr>
          <p:cNvPr id="114" name="PlaceHolder 2"/>
          <p:cNvSpPr>
            <a:spLocks noGrp="1"/>
          </p:cNvSpPr>
          <p:nvPr>
            <p:ph/>
          </p:nvPr>
        </p:nvSpPr>
        <p:spPr>
          <a:xfrm>
            <a:off x="456840" y="1676520"/>
            <a:ext cx="8534520" cy="4114800"/>
          </a:xfrm>
          <a:prstGeom prst="rect">
            <a:avLst/>
          </a:prstGeom>
          <a:noFill/>
          <a:ln w="0">
            <a:noFill/>
          </a:ln>
        </p:spPr>
        <p:txBody>
          <a:bodyPr anchor="t">
            <a:normAutofit fontScale="97000"/>
          </a:bodyPr>
          <a:p>
            <a:pPr marL="443160" indent="-4431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classes :</a:t>
            </a:r>
            <a:endParaRPr b="0" lang="en-US" sz="28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and Color (includes all person who are not white) </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male or female-sexual harassment is illegal)</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and Pregnancy Intention (childbearing condition or plan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40 or older)</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religious belief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physically and mentally disabled-limited protection</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origin-based on country of origin-those who do not speak English or who are not citizens of the United States –limited extent</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Making a case -Obesity, Smokers (issues with insurance benefits) </a:t>
            </a:r>
            <a:endParaRPr b="0" lang="en-US" sz="2000" spc="-1" strike="noStrike">
              <a:solidFill>
                <a:srgbClr val="000000"/>
              </a:solidFill>
              <a:latin typeface="Arial"/>
            </a:endParaRPr>
          </a:p>
          <a:p>
            <a:pPr lvl="1"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91440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compels employers to judge each person according to their individual ability to perform the work at hand</a:t>
            </a:r>
            <a:endParaRPr b="0" lang="en-US" sz="3200" spc="-1" strike="noStrike">
              <a:solidFill>
                <a:srgbClr val="000000"/>
              </a:solidFill>
              <a:latin typeface="Arial"/>
            </a:endParaRPr>
          </a:p>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who are fairly judged to be more dependable , skilled, reactive, smart, or hard working should receive more favorable  treatment.  </a:t>
            </a:r>
            <a:endParaRPr b="0" lang="en-US" sz="3200" spc="-1" strike="noStrike">
              <a:solidFill>
                <a:srgbClr val="000000"/>
              </a:solidFill>
              <a:latin typeface="Arial"/>
            </a:endParaRPr>
          </a:p>
        </p:txBody>
      </p:sp>
      <p:sp>
        <p:nvSpPr>
          <p:cNvPr id="11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16E68E6-AA50-45A5-9BB5-736F701F7B3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62C9019-8540-4325-95FF-BE6B52E505B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0" name="PlaceHolder 1"/>
          <p:cNvSpPr>
            <a:spLocks noGrp="1"/>
          </p:cNvSpPr>
          <p:nvPr>
            <p:ph type="title"/>
          </p:nvPr>
        </p:nvSpPr>
        <p:spPr>
          <a:xfrm>
            <a:off x="4572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a:t>
            </a:r>
            <a:endParaRPr b="0" lang="en-US" sz="3200" spc="-1" strike="noStrike">
              <a:solidFill>
                <a:srgbClr val="000066"/>
              </a:solidFill>
              <a:latin typeface="Arial"/>
            </a:endParaRPr>
          </a:p>
        </p:txBody>
      </p:sp>
      <p:sp>
        <p:nvSpPr>
          <p:cNvPr id="121" name="PlaceHolder 2"/>
          <p:cNvSpPr>
            <a:spLocks noGrp="1"/>
          </p:cNvSpPr>
          <p:nvPr>
            <p:ph/>
          </p:nvPr>
        </p:nvSpPr>
        <p:spPr>
          <a:xfrm>
            <a:off x="304560" y="990360"/>
            <a:ext cx="8458200" cy="51814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protection</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aspects of employment</a:t>
            </a:r>
            <a:r>
              <a:rPr b="0" lang="en-US" sz="2400" spc="-1" strike="noStrike">
                <a:solidFill>
                  <a:srgbClr val="000000"/>
                </a:solidFill>
                <a:latin typeface="Arial"/>
              </a:rPr>
              <a:t>-hiring and all aspects of the job-pay, promotion, training  overtime, educational opportunities, travel requirements, shift rotations, firing, layoffs, and post employment letters of recommenda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ing most employers- </a:t>
            </a:r>
            <a:r>
              <a:rPr b="0" lang="en-US" sz="2400" spc="-1" strike="noStrike">
                <a:solidFill>
                  <a:srgbClr val="000000"/>
                </a:solidFill>
                <a:latin typeface="Arial"/>
              </a:rPr>
              <a:t>Most employers that have 15 or more employees and are engaged in interstate commerce are subject to the federal employment discrimination laws.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most all employers are except some small businesses are subject to the laws.</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BC0A8A3-8CEF-4FBB-BEC4-F41524C0480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3"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4" name="Rectangle 12"/>
          <p:cNvSpPr/>
          <p:nvPr/>
        </p:nvSpPr>
        <p:spPr>
          <a:xfrm>
            <a:off x="914400" y="2286000"/>
            <a:ext cx="76201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that, under federal law, employers may not consider in any employment-related decision.</a:t>
            </a:r>
            <a:endParaRPr b="0" lang="en-US" sz="32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e and Color</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gnancy and Pregnancy intent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g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ility </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origin </a:t>
            </a:r>
            <a:endParaRPr b="0" lang="en-US" sz="1600" spc="-1" strike="noStrike">
              <a:solidFill>
                <a:srgbClr val="000000"/>
              </a:solidFill>
              <a:latin typeface="Times New Roman"/>
            </a:endParaRPr>
          </a:p>
        </p:txBody>
      </p:sp>
      <p:pic>
        <p:nvPicPr>
          <p:cNvPr id="125"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00441C8-70B4-4543-8EE0-E0024ECF159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6858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WS THAT PROHIBIT EMPLOYMENT DISCRIMINATION</a:t>
            </a:r>
            <a:endParaRPr b="0" lang="en-US" sz="2400" spc="-1" strike="noStrike">
              <a:solidFill>
                <a:srgbClr val="000066"/>
              </a:solidFill>
              <a:latin typeface="Arial"/>
            </a:endParaRPr>
          </a:p>
        </p:txBody>
      </p:sp>
      <p:sp>
        <p:nvSpPr>
          <p:cNvPr id="129" name="PlaceHolder 2"/>
          <p:cNvSpPr>
            <a:spLocks noGrp="1"/>
          </p:cNvSpPr>
          <p:nvPr>
            <p:ph/>
          </p:nvPr>
        </p:nvSpPr>
        <p:spPr>
          <a:xfrm>
            <a:off x="304560" y="1066320"/>
            <a:ext cx="8839080" cy="449604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VII of the Civil Rights Act of 1964-</a:t>
            </a:r>
            <a:r>
              <a:rPr b="0" lang="en-US" sz="2000" spc="-1" strike="noStrike">
                <a:solidFill>
                  <a:srgbClr val="000000"/>
                </a:solidFill>
                <a:latin typeface="Arial"/>
              </a:rPr>
              <a:t>forbids employers, employment agencies and unions from discriminating in hiring, paying, training, promoting  or discharging employees on the basis of race, color, religion, national origin or gender.  </a:t>
            </a:r>
            <a:endParaRPr b="0" lang="en-US" sz="20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 Employment Opportunity Commission </a:t>
            </a:r>
            <a:r>
              <a:rPr b="0" lang="en-US" sz="2000" spc="-1" strike="noStrike">
                <a:solidFill>
                  <a:srgbClr val="000000"/>
                </a:solidFill>
                <a:latin typeface="Arial"/>
              </a:rPr>
              <a:t>(EEOC) gave the authority to investigate and settle complaint of job discrimination and can prosecute offenders</a:t>
            </a:r>
            <a:endParaRPr b="0" lang="en-US" sz="20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mployer has discriminated in the past, the courts can manage an </a:t>
            </a:r>
            <a:r>
              <a:rPr b="1" lang="en-US" sz="2000" spc="-1" strike="noStrike">
                <a:solidFill>
                  <a:srgbClr val="000000"/>
                </a:solidFill>
                <a:latin typeface="Arial"/>
              </a:rPr>
              <a:t>affirmative action plan </a:t>
            </a:r>
            <a:r>
              <a:rPr b="0" lang="en-US" sz="2000" spc="-1" strike="noStrike">
                <a:solidFill>
                  <a:srgbClr val="000000"/>
                </a:solidFill>
                <a:latin typeface="Arial"/>
              </a:rPr>
              <a:t>(</a:t>
            </a:r>
            <a:r>
              <a:rPr b="0" i="1" lang="en-US" sz="2000" spc="-1" strike="noStrike">
                <a:solidFill>
                  <a:srgbClr val="000000"/>
                </a:solidFill>
                <a:latin typeface="Arial"/>
              </a:rPr>
              <a:t>eliminate the current and lingering effects of prior discrimination. It is a race and sex conscious effort to achieve equal employment opportunity for all race/sex groups in a workforc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7474BA5-A740-4966-AD6C-EAF8EB49854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2" name="Rectangle 12"/>
          <p:cNvSpPr/>
          <p:nvPr/>
        </p:nvSpPr>
        <p:spPr>
          <a:xfrm>
            <a:off x="914400" y="2286000"/>
            <a:ext cx="73915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
          <p:cNvSpPr/>
          <p:nvPr/>
        </p:nvSpPr>
        <p:spPr>
          <a:xfrm>
            <a:off x="430200" y="228600"/>
            <a:ext cx="8359920" cy="5886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 Pay Act of 1963</a:t>
            </a:r>
            <a:r>
              <a:rPr b="0" lang="en-US" sz="2400" spc="-1" strike="noStrike">
                <a:solidFill>
                  <a:srgbClr val="000000"/>
                </a:solidFill>
                <a:latin typeface="Times New Roman"/>
              </a:rPr>
              <a:t>-prohibits wage discrimination on the basis of gender.  Women who do the same work as men must be paid the same rate (same skill, effort, and responsibility) </a:t>
            </a:r>
            <a:endParaRPr b="0" lang="en-US" sz="24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erences in pay are allowed if based on any of the following:</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it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iority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ing pay on quantity or quality of production</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ed on any factor other than gender</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Discrimination in Employment Act of 1967-</a:t>
            </a:r>
            <a:r>
              <a:rPr b="0" lang="en-US" sz="2000" spc="-1" strike="noStrike">
                <a:solidFill>
                  <a:srgbClr val="000000"/>
                </a:solidFill>
                <a:latin typeface="Times New Roman"/>
              </a:rPr>
              <a:t>40 years or older –any employment practice-hiring, discharging , retiring, promoting, and compensation –exceptions are made when age is necessary consideration for job performance-dub driver, fire fighter, and police officers</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s with Disabilities Act-(ADA)-</a:t>
            </a:r>
            <a:r>
              <a:rPr b="0" lang="en-US" sz="2000" spc="-1" strike="noStrike">
                <a:solidFill>
                  <a:srgbClr val="000000"/>
                </a:solidFill>
                <a:latin typeface="Times New Roman"/>
              </a:rPr>
              <a:t>requires that employers not engage in unjustified discrimination against disabled  person on the basis of their disability. </a:t>
            </a:r>
            <a:endParaRPr b="0" lang="en-US" sz="20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ttempts to prevent employers from automatically assuming that disabled person cannot perform work</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0880" y="457200"/>
            <a:ext cx="8763120" cy="6019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y-</a:t>
            </a:r>
            <a:r>
              <a:rPr b="0" lang="en-US" sz="2000" spc="-1" strike="noStrike">
                <a:solidFill>
                  <a:srgbClr val="000000"/>
                </a:solidFill>
                <a:latin typeface="Arial"/>
              </a:rPr>
              <a:t>physical or mental impairment that substantially limits one or more of life’s major activities such as seeing, hearing, speaking,  breathing, walking, learning, performing manual tasks, lifting, reproduction eating, sleeping, driving, caring for oneself, and working.   </a:t>
            </a:r>
            <a:endParaRPr b="0" lang="en-US" sz="20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use of illegal drugs ins not a disability</a:t>
            </a:r>
            <a:endParaRPr b="0" lang="en-US" sz="14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gious diseases are determined on individual  medical judgments by the courts  </a:t>
            </a:r>
            <a:endParaRPr b="0" lang="en-US" sz="14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with disability-</a:t>
            </a:r>
            <a:r>
              <a:rPr b="0" lang="en-US" sz="2000" spc="-1" strike="noStrike">
                <a:solidFill>
                  <a:srgbClr val="000000"/>
                </a:solidFill>
                <a:latin typeface="Arial"/>
              </a:rPr>
              <a:t>defined</a:t>
            </a:r>
            <a:r>
              <a:rPr b="1" lang="en-US" sz="2000" spc="-1" strike="noStrike">
                <a:solidFill>
                  <a:srgbClr val="000000"/>
                </a:solidFill>
                <a:latin typeface="Arial"/>
              </a:rPr>
              <a:t> </a:t>
            </a:r>
            <a:r>
              <a:rPr b="0" lang="en-US" sz="2000" spc="-1" strike="noStrike">
                <a:solidFill>
                  <a:srgbClr val="000000"/>
                </a:solidFill>
                <a:latin typeface="Arial"/>
              </a:rPr>
              <a:t>as one who can perform the essential functions of the job or who could perform those functions with a reasonable accommodation.  (not a hardship on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cy Discrimination Act-a </a:t>
            </a:r>
            <a:r>
              <a:rPr b="0" lang="en-US" sz="2000" spc="-1" strike="noStrike">
                <a:solidFill>
                  <a:srgbClr val="000000"/>
                </a:solidFill>
                <a:latin typeface="Arial"/>
              </a:rPr>
              <a:t>statue that makes it illegal to discriminate because of pregnancy, childbirth, or related medical conditions.  An employee may not fire, refuse to hire, refuse to promote, or demote a woman because she is pregnan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egal to discriminate in providing fridge benefits –health benefits excluding conditins relating to pregnancy </a:t>
            </a:r>
            <a:endParaRPr b="0" lang="en-US" sz="1600" spc="-1" strike="noStrike">
              <a:solidFill>
                <a:srgbClr val="000000"/>
              </a:solidFill>
              <a:latin typeface="Arial"/>
            </a:endParaRPr>
          </a:p>
        </p:txBody>
      </p:sp>
      <p:sp>
        <p:nvSpPr>
          <p:cNvPr id="13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7163555-30B6-40E0-947D-0F0A8837975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DF9617E-D19E-4B8C-8815-BABA0BC20A7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9" name="PlaceHolder 1"/>
          <p:cNvSpPr>
            <a:spLocks noGrp="1"/>
          </p:cNvSpPr>
          <p:nvPr>
            <p:ph type="title"/>
          </p:nvPr>
        </p:nvSpPr>
        <p:spPr>
          <a:xfrm>
            <a:off x="685800" y="228240"/>
            <a:ext cx="7772400" cy="15238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4-2</a:t>
            </a:r>
            <a:r>
              <a:rPr b="1" lang="en-US" sz="3600" spc="-1" strike="noStrike">
                <a:solidFill>
                  <a:srgbClr val="000066"/>
                </a:solidFill>
                <a:latin typeface="Arial"/>
              </a:rPr>
              <a:t>	</a:t>
            </a:r>
            <a:r>
              <a:rPr b="0" lang="en-US" sz="3600" spc="-1" strike="noStrike">
                <a:solidFill>
                  <a:srgbClr val="000066"/>
                </a:solidFill>
                <a:latin typeface="Arial"/>
              </a:rPr>
              <a:t>Proving Illegal Discrimination</a:t>
            </a:r>
            <a:endParaRPr b="0" lang="en-US" sz="3600" spc="-1" strike="noStrike">
              <a:solidFill>
                <a:srgbClr val="0000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AL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a case based on unequal treatmen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case based on disparate impac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forms of sexual harassment</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03:12:28Z</dcterms:created>
  <dc:creator>M. C. McLaughlin</dc:creator>
  <dc:description/>
  <dc:language>en-US</dc:language>
  <cp:lastModifiedBy>Linda Christensen</cp:lastModifiedBy>
  <dcterms:modified xsi:type="dcterms:W3CDTF">2012-12-20T17:29:41Z</dcterms:modified>
  <cp:revision>27</cp:revision>
  <dc:subject/>
  <dc:title>CHAPTER 23 Discrimination in Employment</dc:title>
</cp:coreProperties>
</file>