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840A-C5B9-4BDB-8AAF-244852776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6EFA-F3E0-4F94-8037-421028909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62D7-6809-42D8-A720-2490D5DA2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5A66-933B-4826-BF11-4C8933563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5817-8354-4AC4-9C0B-531E637F9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A48D-9991-481C-9DDD-5659B1025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C19D-52EF-4381-805A-1F675A25D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C69B-C993-4F71-8BDC-E76F6B4F8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CAED-5ECB-4E54-A3A1-34F522B20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E893-F2F0-4B05-8EFA-C199522F3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2055-18D6-4C5A-B69A-83712366E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0582-EB67-4ECC-B9AF-1F3EDDC6B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3B81-9063-44B1-B981-CCBB43D06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EA2D-5A30-4FD7-8674-2B8081152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4C0D-6E65-4AD6-AE33-70988F51D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EC7F-7A7C-4E4C-B099-E42015D50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1A1E-A883-4898-B306-1D31ECD6B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A18E-76B5-4743-9CDE-29ABA2487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EC0F-32AC-4F12-9E12-24C530700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ADC9-2FFD-477C-B0FD-BE407011E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3E7D-B5DD-4A54-AFA2-373F29B84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8195-4EF7-49D3-B61F-041937EF0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0D24-5DFD-44F7-B4E5-71EED3E68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B543-9769-4A01-A315-03460F064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ADF8-883E-48B2-A431-41AF52D3B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3E58-DA67-4D67-9D56-544E82305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8EDC-BA4E-49C1-B375-9403E6D4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37C-4A95-45FC-88B8-E02D6925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F5E5-97B6-4AA3-9491-AED6BEA0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6A1-FD89-4C67-92FB-C0131A7F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DF0B-CDAE-41F5-8C48-BC536CB2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345-CCC6-42A7-B320-496F7050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FF0-B746-4769-8FE0-F83B1CFD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FB4-93DB-46AA-820D-89469D39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6B8-4CD1-4391-9C12-A5DC1D23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CB5-617E-47E7-8D12-DD674B83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22B-0F43-447D-AD9C-9436F8CA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C57-6337-40A8-B545-F8297290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BA2D-4688-4EC9-8524-5C2661F1A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" Target="slide15.xml"/><Relationship Id="rId13" Type="http://schemas.openxmlformats.org/officeDocument/2006/relationships/slide" Target="slide17.xml"/><Relationship Id="rId14" Type="http://schemas.openxmlformats.org/officeDocument/2006/relationships/slide" Target="slide17.xml"/><Relationship Id="rId15" Type="http://schemas.openxmlformats.org/officeDocument/2006/relationships/slide" Target="slide19.xml"/><Relationship Id="rId16" Type="http://schemas.openxmlformats.org/officeDocument/2006/relationships/slide" Target="slide19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3.xml"/><Relationship Id="rId20" Type="http://schemas.openxmlformats.org/officeDocument/2006/relationships/slide" Target="slide23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9.xml"/><Relationship Id="rId26" Type="http://schemas.openxmlformats.org/officeDocument/2006/relationships/slide" Target="slide29.xml"/><Relationship Id="rId27" Type="http://schemas.openxmlformats.org/officeDocument/2006/relationships/slide" Target="slide31.xml"/><Relationship Id="rId28" Type="http://schemas.openxmlformats.org/officeDocument/2006/relationships/slide" Target="slide31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35.xml"/><Relationship Id="rId32" Type="http://schemas.openxmlformats.org/officeDocument/2006/relationships/slide" Target="slide35.xml"/><Relationship Id="rId33" Type="http://schemas.openxmlformats.org/officeDocument/2006/relationships/slide" Target="slide37.xml"/><Relationship Id="rId34" Type="http://schemas.openxmlformats.org/officeDocument/2006/relationships/slide" Target="slide37.xml"/><Relationship Id="rId35" Type="http://schemas.openxmlformats.org/officeDocument/2006/relationships/slide" Target="slide39.xml"/><Relationship Id="rId36" Type="http://schemas.openxmlformats.org/officeDocument/2006/relationships/slide" Target="slide39.xml"/><Relationship Id="rId37" Type="http://schemas.openxmlformats.org/officeDocument/2006/relationships/slide" Target="slide40.xml"/><Relationship Id="rId38" Type="http://schemas.openxmlformats.org/officeDocument/2006/relationships/slide" Target="slide41.xml"/><Relationship Id="rId39" Type="http://schemas.openxmlformats.org/officeDocument/2006/relationships/slide" Target="slide43.xml"/><Relationship Id="rId40" Type="http://schemas.openxmlformats.org/officeDocument/2006/relationships/slide" Target="slide43.xml"/><Relationship Id="rId41" Type="http://schemas.openxmlformats.org/officeDocument/2006/relationships/slide" Target="slide45.xml"/><Relationship Id="rId42" Type="http://schemas.openxmlformats.org/officeDocument/2006/relationships/slide" Target="slide45.xml"/><Relationship Id="rId43" Type="http://schemas.openxmlformats.org/officeDocument/2006/relationships/slide" Target="slide45.xml"/><Relationship Id="rId44" Type="http://schemas.openxmlformats.org/officeDocument/2006/relationships/slide" Target="slide47.xml"/><Relationship Id="rId45" Type="http://schemas.openxmlformats.org/officeDocument/2006/relationships/slide" Target="slide49.xml"/><Relationship Id="rId46" Type="http://schemas.openxmlformats.org/officeDocument/2006/relationships/slide" Target="slide49.xml"/><Relationship Id="rId47" Type="http://schemas.openxmlformats.org/officeDocument/2006/relationships/slide" Target="slide3.xml"/><Relationship Id="rId48" Type="http://schemas.openxmlformats.org/officeDocument/2006/relationships/image" Target="../media/image1.jpeg"/><Relationship Id="rId49" Type="http://schemas.openxmlformats.org/officeDocument/2006/relationships/slide" Target="slide51.xml"/><Relationship Id="rId50" Type="http://schemas.openxmlformats.org/officeDocument/2006/relationships/slide" Target="slide51.xml"/><Relationship Id="rId5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Mrs. Christense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Pres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2057400" y="358128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eopardy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anitrus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295280" y="685440"/>
            <a:ext cx="6324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type of larceny where a building is entered without permis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6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burgla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95280" y="913320"/>
            <a:ext cx="6324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A serious crime that is punishable by confinement in a state prison or a large f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felo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295280" y="1431720"/>
            <a:ext cx="63248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Obscenity is a crime agains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62699"/>
                </a:solidFill>
                <a:latin typeface="Arial"/>
              </a:rPr>
              <a:t>?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decenc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295280" y="182880"/>
            <a:ext cx="63248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less serious crime that is punishable by confinement in a county or city jai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misdemeano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95280" y="210204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Lying under oa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5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6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7">
            <a:hlinkClick r:id="rId4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18">
            <a:hlinkClick r:id="rId4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19">
            <a:hlinkClick r:id="rId45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47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siness Re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 C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tpour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mend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21"/>
          <p:cNvSpPr/>
          <p:nvPr/>
        </p:nvSpPr>
        <p:spPr>
          <a:xfrm>
            <a:off x="0" y="1149480"/>
            <a:ext cx="91440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23"/>
          <p:cNvSpPr/>
          <p:nvPr/>
        </p:nvSpPr>
        <p:spPr>
          <a:xfrm>
            <a:off x="7315200" y="6095880"/>
            <a:ext cx="1752480" cy="6858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20">
            <a:hlinkClick r:id="rId4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50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perjur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295280" y="685440"/>
            <a:ext cx="6324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lesser misdemeanor where the defendant cannot be jail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infract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95280" y="456120"/>
            <a:ext cx="6324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 crime against an individual but not against socie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523880" y="31240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civil offens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295280" y="1553400"/>
            <a:ext cx="632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 punishable offense against socie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crim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1295280" y="334440"/>
            <a:ext cx="63248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riminal intent means the defendant intended to do </a:t>
            </a:r>
            <a:r>
              <a:rPr b="0" lang="en-US" sz="8800" spc="-1" strike="noStrike">
                <a:solidFill>
                  <a:srgbClr val="2626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evi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295280" y="685440"/>
            <a:ext cx="6324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The age, under early common law, that was below the age of reas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562040" y="1553400"/>
            <a:ext cx="632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nother name for business cri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7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1295280" y="100476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he age of criminal liability in most st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6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18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295280" y="1553400"/>
            <a:ext cx="632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 person who receives stolen proper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a fenc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1295280" y="1188360"/>
            <a:ext cx="6324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n agreement between two or more persons to commit a cri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a conspiracy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295280" y="100476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he smallest fine for committing a felon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$1,000.00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1295280" y="100476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he shortest jail term for committing a felon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26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white-collar cri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0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31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1 yea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1295280" y="913320"/>
            <a:ext cx="6324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The doctrine that holds corporate officers responsible for employee cri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vicarious criminal liabilit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685800" y="3133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1905120" y="182880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Freedom of speech </a:t>
            </a:r>
            <a:br>
              <a:rPr sz="24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1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295280" y="173700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Prevents the government from violating privacy searches and seizure(arres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4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295280" y="1827720"/>
            <a:ext cx="632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ights of Accused in Criminal Prosecu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6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71680" y="1141920"/>
            <a:ext cx="788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No double jeopardy, no one can be tried for the same trial twice, right to remain silent when question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295280" y="685440"/>
            <a:ext cx="6324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crime where a person obtains money by lying about a past or exiting fac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5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295280" y="210204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Right to bear arm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2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false pretenses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1295280" y="182880"/>
            <a:ext cx="63248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crime where money is offered to influence the performance of an offici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briber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95280" y="100476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 type of law that forbids competing price fix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Susan Collins/Eleanor Savko</dc:creator>
  <dc:description/>
  <dc:language>en-US</dc:language>
  <cp:lastModifiedBy>Linda Christensen</cp:lastModifiedBy>
  <dcterms:modified xsi:type="dcterms:W3CDTF">2012-10-11T15:18:58Z</dcterms:modified>
  <cp:revision>60</cp:revision>
  <dc:subject>Jeopardy</dc:subject>
  <dc:title>Math 5A</dc:title>
</cp:coreProperties>
</file>