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4B73-5399-47DF-AFE3-B91EEDADE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D088-C38D-41A4-AB7A-F663B7E1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0B4-EF0A-46D1-82FB-DC2C28CB1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2FC3-4BC6-41BC-8C43-A5DB592DA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C9D1-79CE-429B-AAF6-4E590FBA8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0FD8-FCC6-4A84-A1A2-4A007D6D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CB0F-1953-4FE5-A476-DE778F2C5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804C-B413-4876-8A5A-26A061C3D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B050-C5AD-41F0-8CD0-B6C72F32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DA3A-ADF7-4C43-8592-CB4799CC7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519D-709C-49ED-9315-AC3DC913C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AA1B-9EC9-4E7D-965D-07FCFD0DD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C0D0-77FC-414B-83AB-2562FB09F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F996-073C-4DA5-B13C-F111727F0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A6A8-0388-4AA0-844C-CF064A932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C33D-B16B-497A-8F20-9C9176B05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1297-09E1-4372-B556-5171284E8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CDEA-F44A-40E8-8F05-A5588F05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5BFF-72D8-4840-87B2-6DCECF32E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240-A8C2-4335-9A94-86FECF62E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1234-7350-48A4-AE02-845C8CD51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5438-7465-4447-BAF0-04EABDC31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7374-13FB-4DE8-8BE5-0E033FCF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BD06-373C-4868-93CC-9D89788B1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295-0906-4A24-96BF-C08CB8C98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0071-BFB2-48CE-BA7A-F112ADE10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5C9-F8ED-4C00-9B1D-DAACA96A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0CF-3978-4AA8-A064-3BD5D179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2EA-E076-4258-830F-23870192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F1C-D1B8-4880-ABEC-BC7E01DA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45C-B1DB-449E-BDBB-5867D0AB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96D-7E40-404F-83A3-A5AD6CBE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091-85ED-433B-B0FC-C2C0D4F4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05D-EB9F-45C7-A592-8B5377B8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EAD-10D7-463F-9541-BA3D29E2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B2A-87A9-42F7-9C28-42DF54F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F3D-2BF6-4620-B068-0CF36ABC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F7B-E346-4B4E-9D15-3164A9FF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E4C1-D2D1-4BC3-97D8-D4765CD5A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3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5.xml"/><Relationship Id="rId32" Type="http://schemas.openxmlformats.org/officeDocument/2006/relationships/slide" Target="slide35.xml"/><Relationship Id="rId33" Type="http://schemas.openxmlformats.org/officeDocument/2006/relationships/slide" Target="slide37.xml"/><Relationship Id="rId34" Type="http://schemas.openxmlformats.org/officeDocument/2006/relationships/slide" Target="slide37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40.xml"/><Relationship Id="rId38" Type="http://schemas.openxmlformats.org/officeDocument/2006/relationships/slide" Target="slide41.xml"/><Relationship Id="rId39" Type="http://schemas.openxmlformats.org/officeDocument/2006/relationships/slide" Target="slide43.xml"/><Relationship Id="rId40" Type="http://schemas.openxmlformats.org/officeDocument/2006/relationships/slide" Target="slide43.xml"/><Relationship Id="rId41" Type="http://schemas.openxmlformats.org/officeDocument/2006/relationships/slide" Target="slide45.xml"/><Relationship Id="rId42" Type="http://schemas.openxmlformats.org/officeDocument/2006/relationships/slide" Target="slide45.xml"/><Relationship Id="rId43" Type="http://schemas.openxmlformats.org/officeDocument/2006/relationships/slide" Target="slide45.xml"/><Relationship Id="rId44" Type="http://schemas.openxmlformats.org/officeDocument/2006/relationships/slide" Target="slide47.xml"/><Relationship Id="rId45" Type="http://schemas.openxmlformats.org/officeDocument/2006/relationships/slide" Target="slide49.xml"/><Relationship Id="rId46" Type="http://schemas.openxmlformats.org/officeDocument/2006/relationships/slide" Target="slide49.xml"/><Relationship Id="rId47" Type="http://schemas.openxmlformats.org/officeDocument/2006/relationships/slide" Target="slide3.xml"/><Relationship Id="rId48" Type="http://schemas.openxmlformats.org/officeDocument/2006/relationships/image" Target="../media/image1.jpeg"/><Relationship Id="rId49" Type="http://schemas.openxmlformats.org/officeDocument/2006/relationships/slide" Target="slide51.xml"/><Relationship Id="rId50" Type="http://schemas.openxmlformats.org/officeDocument/2006/relationships/slide" Target="slide51.xml"/><Relationship Id="rId5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Mrs. Christens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Pres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057400" y="35812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eopardy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nitrus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type of larceny where a building is entered without permis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burgla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95280" y="913320"/>
            <a:ext cx="6324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A serious crime that is punishable by confinement in a state prison or a large f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felo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95280" y="1431720"/>
            <a:ext cx="6324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Obscenity is a crime agains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99"/>
                </a:solidFill>
                <a:latin typeface="Arial"/>
              </a:rPr>
              <a:t>?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decenc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295280" y="182880"/>
            <a:ext cx="6324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less serious crime that is punishable by confinement in a county or city jai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misdemean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95280" y="210204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Lying under o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47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siness Re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 C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tpour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end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21"/>
          <p:cNvSpPr/>
          <p:nvPr/>
        </p:nvSpPr>
        <p:spPr>
          <a:xfrm>
            <a:off x="0" y="1149480"/>
            <a:ext cx="91440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3"/>
          <p:cNvSpPr/>
          <p:nvPr/>
        </p:nvSpPr>
        <p:spPr>
          <a:xfrm>
            <a:off x="7315200" y="6095880"/>
            <a:ext cx="1752480" cy="685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20">
            <a:hlinkClick r:id="rId4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5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perju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lesser misdemeanor where the defendant cannot be jail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infrac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95280" y="456120"/>
            <a:ext cx="632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crime against an individual but not against socie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238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civil offens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29528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punishable offense against socie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crim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295280" y="334440"/>
            <a:ext cx="63248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riminal intent means the defendant intended to do </a:t>
            </a:r>
            <a:r>
              <a:rPr b="0" lang="en-US" sz="8800" spc="-1" strike="noStrike">
                <a:solidFill>
                  <a:srgbClr val="2626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evi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The age, under early common law, that was below the age of reas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6204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nother name for business cr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7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age of criminal liability in most st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18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29528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person who receives stolen proper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 fenc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1295280" y="1188360"/>
            <a:ext cx="6324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n agreement between two or more persons to commit a cri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 conspiracy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smallest fine for committing a fe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$1,000.00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shortest jail term for committing a fe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6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white-collar cr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3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1 yea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295280" y="913320"/>
            <a:ext cx="6324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doctrine that holds corporate officers responsible for employee cri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vicarious criminal liabilit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685800" y="3133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1905120" y="182880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Freedom of speech </a:t>
            </a:r>
            <a:br>
              <a:rPr sz="2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1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295280" y="17370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revents the government from violating privacy searches and seizure(arres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4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95280" y="182772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ights of Accused in Criminal Prosecu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6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71680" y="1141920"/>
            <a:ext cx="788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 double jeopardy, no one can be tried for the same trial twice, right to remain silent when question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crime where a person obtains money by lying about a past or exiting fac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5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210204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Right to bear ar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2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false pretenses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1295280" y="182880"/>
            <a:ext cx="6324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crime where money is offered to influence the performance of an offici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bribe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type of law that forbids competing price fix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/Eleanor Savko</dc:creator>
  <dc:description/>
  <dc:language>en-US</dc:language>
  <cp:lastModifiedBy>Linda Christensen</cp:lastModifiedBy>
  <dcterms:modified xsi:type="dcterms:W3CDTF">2012-10-11T15:18:58Z</dcterms:modified>
  <cp:revision>60</cp:revision>
  <dc:subject>Jeopardy</dc:subject>
  <dc:title>Math 5A</dc:title>
</cp:coreProperties>
</file>