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CF97-8B0C-425F-AC07-AD3BEA48A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C0FB-05D5-48F5-AC40-047DCA5B7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63AB-0075-4FA5-89EA-487F4E1F4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5AB-2BC5-4A3E-90C5-15E9BFC0B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A066-D71D-44EE-A898-E41D5F030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D2A6-C995-4DCD-8738-013AA550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393B-FD02-4883-8CD5-3E4C762DF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47CC-A08C-402C-A6F8-131410473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2E0F-75B4-4181-9710-676E081B1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57AC-B55E-4B26-83E5-587516C88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925E-C9FB-40D0-974E-30D0E384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AAE2-F366-40D4-9AEE-D338500DB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790C-C54E-4134-81A3-225D38D4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66F9-F981-4AAC-8086-74D4A307C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EED6-E502-40B0-AD5F-DA8B6B7BE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9690-87F4-46CE-A683-A2D2B6880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6BFF-1F0A-42AA-8364-A5E3C258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40D4-C18C-42D7-989B-33B1FC6B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A7E8-2ECF-47F2-9279-DDFD75760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A7FB-6720-4BFB-932A-E7D4D4AE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FFE0-785E-4767-8744-9EAF2C3A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2A7A-F148-4F20-8325-F2C4FA94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C970-8280-48EA-AE9C-7510A1BB8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96ED-3468-4498-8259-D3E9FC1D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7596-9D1D-476B-993F-3ED31B42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297B-745B-454B-835B-EF81A11B5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176-EAAA-47F8-B946-3C311364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C66-D4C5-412A-9D06-0D964CBE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121-E119-49DB-BC8C-EB52F308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859-17D5-4F55-97EC-A6339D45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9B2-8CD8-4367-89B7-6AB47C60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DA3-1BAB-471E-BAE3-33C3ACED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E09-48E7-41A3-A982-334EA2D2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7F9-31E1-4D40-92EF-4A39E2EF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487-0F72-4E36-8338-C0468C90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AB2-56E5-481A-A582-EF6D55AC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0AE-6717-467C-9B33-54664E68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CA1-3794-4FD8-B972-24E22DB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EF7D-12BB-4097-BCCE-52FBD1205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3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5.xml"/><Relationship Id="rId32" Type="http://schemas.openxmlformats.org/officeDocument/2006/relationships/slide" Target="slide35.xml"/><Relationship Id="rId33" Type="http://schemas.openxmlformats.org/officeDocument/2006/relationships/slide" Target="slide37.xml"/><Relationship Id="rId34" Type="http://schemas.openxmlformats.org/officeDocument/2006/relationships/slide" Target="slide37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40.xml"/><Relationship Id="rId38" Type="http://schemas.openxmlformats.org/officeDocument/2006/relationships/slide" Target="slide41.xml"/><Relationship Id="rId39" Type="http://schemas.openxmlformats.org/officeDocument/2006/relationships/slide" Target="slide43.xml"/><Relationship Id="rId40" Type="http://schemas.openxmlformats.org/officeDocument/2006/relationships/slide" Target="slide43.xml"/><Relationship Id="rId41" Type="http://schemas.openxmlformats.org/officeDocument/2006/relationships/slide" Target="slide45.xml"/><Relationship Id="rId42" Type="http://schemas.openxmlformats.org/officeDocument/2006/relationships/slide" Target="slide45.xml"/><Relationship Id="rId43" Type="http://schemas.openxmlformats.org/officeDocument/2006/relationships/slide" Target="slide45.xml"/><Relationship Id="rId44" Type="http://schemas.openxmlformats.org/officeDocument/2006/relationships/slide" Target="slide47.xml"/><Relationship Id="rId45" Type="http://schemas.openxmlformats.org/officeDocument/2006/relationships/slide" Target="slide49.xml"/><Relationship Id="rId46" Type="http://schemas.openxmlformats.org/officeDocument/2006/relationships/slide" Target="slide49.xml"/><Relationship Id="rId47" Type="http://schemas.openxmlformats.org/officeDocument/2006/relationships/slide" Target="slide3.xml"/><Relationship Id="rId48" Type="http://schemas.openxmlformats.org/officeDocument/2006/relationships/image" Target="../media/image1.jpeg"/><Relationship Id="rId49" Type="http://schemas.openxmlformats.org/officeDocument/2006/relationships/slide" Target="slide51.xml"/><Relationship Id="rId50" Type="http://schemas.openxmlformats.org/officeDocument/2006/relationships/slide" Target="slide51.xml"/><Relationship Id="rId5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Mrs. Christens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Pres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057400" y="35812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eopardy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nitrus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type of larceny where a building is entered without permis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burgla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95280" y="913320"/>
            <a:ext cx="6324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A serious crime that is punishable by confinement in a state prison or a large f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felo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95280" y="1431720"/>
            <a:ext cx="6324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Obscenity is a crime agains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99"/>
                </a:solidFill>
                <a:latin typeface="Arial"/>
              </a:rPr>
              <a:t>?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decenc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295280" y="182880"/>
            <a:ext cx="6324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less serious crime that is punishable by confinement in a county or city jai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misdemean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95280" y="210204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Lying under o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47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siness Re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 C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tpour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end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21"/>
          <p:cNvSpPr/>
          <p:nvPr/>
        </p:nvSpPr>
        <p:spPr>
          <a:xfrm>
            <a:off x="0" y="1149480"/>
            <a:ext cx="91440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3"/>
          <p:cNvSpPr/>
          <p:nvPr/>
        </p:nvSpPr>
        <p:spPr>
          <a:xfrm>
            <a:off x="7315200" y="6095880"/>
            <a:ext cx="1752480" cy="685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20">
            <a:hlinkClick r:id="rId4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5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perju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lesser misdemeanor where the defendant cannot be jail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infrac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95280" y="456120"/>
            <a:ext cx="632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crime against an individual but not against socie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238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civil offens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29528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punishable offense against socie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crim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295280" y="334440"/>
            <a:ext cx="63248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riminal intent means the defendant intended to do </a:t>
            </a:r>
            <a:r>
              <a:rPr b="0" lang="en-US" sz="8800" spc="-1" strike="noStrike">
                <a:solidFill>
                  <a:srgbClr val="2626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evi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The age, under early common law, that was below the age of reas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6204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nother name for business cr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7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age of criminal liability in most st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18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29528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person who receives stolen proper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 fenc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1295280" y="1188360"/>
            <a:ext cx="6324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n agreement between two or more persons to commit a cri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 conspiracy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smallest fine for committing a fe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$1,000.00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shortest jail term for committing a fe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6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white-collar cr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3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1 yea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295280" y="913320"/>
            <a:ext cx="6324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doctrine that holds corporate officers responsible for employee cri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vicarious criminal liabilit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685800" y="3133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1905120" y="182880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Freedom of speech </a:t>
            </a:r>
            <a:br>
              <a:rPr sz="2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1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295280" y="17370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revents the government from violating privacy searches and seizure(arres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4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95280" y="182772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ights of Accused in Criminal Prosecu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6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71680" y="1141920"/>
            <a:ext cx="788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 double jeopardy, no one can be tried for the same trial twice, right to remain silent when question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crime where a person obtains money by lying about a past or exiting fac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5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210204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Right to bear ar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2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false pretenses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1295280" y="182880"/>
            <a:ext cx="6324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crime where money is offered to influence the performance of an offici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bribe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type of law that forbids competing price fix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/Eleanor Savko</dc:creator>
  <dc:description/>
  <dc:language>en-US</dc:language>
  <cp:lastModifiedBy>Linda Christensen</cp:lastModifiedBy>
  <dcterms:modified xsi:type="dcterms:W3CDTF">2012-10-11T15:18:58Z</dcterms:modified>
  <cp:revision>60</cp:revision>
  <dc:subject>Jeopardy</dc:subject>
  <dc:title>Math 5A</dc:title>
</cp:coreProperties>
</file>