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CC85-5A76-473B-9E3A-BA36F3A02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B5E-F40A-4A14-8F5F-6C592044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53CE-A813-48EA-9397-93CA7C8A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DC9-11AB-465D-8AEE-C94DC67D2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6729-8BF0-48FA-8F96-2FB21FE7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8B2-3C75-4CF0-A8B5-7F44894F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3BD-76E6-465F-9FDD-3BE596DC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189-135A-4036-9DC3-F7834E29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8837-7FA7-42BA-AF1E-C3C74988B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A53-327F-4332-8EB5-CB56BD626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F55-24BC-47A1-BD15-0332054BE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B76-D0F7-4D7C-A976-3D8C5A8F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039-52C4-42FA-8363-6CE26582C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581E-7F93-4F0A-8630-426DE0DC0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D1C3-1C10-4AF5-8640-76795F88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DACC-69AA-413F-B1DC-968B0031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FB5B-6105-46B3-B64B-430640DA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E85-A88B-4733-BD99-69AC8D2E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47E8-0130-4328-B62A-73D996563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648D-C766-4D20-9FD0-1E3ECBE3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C6F-5228-4C75-ACD5-BCB921D3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D11-34C5-4AEF-A7F7-AC7523B3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A46-129A-4869-9475-8DEB112D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575-2571-47C0-9224-6027AB3E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BC0-1A06-4B14-8392-EE670BEE3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6805-5C5B-435E-AD7E-54EB1C11B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4C4-AF8B-42C5-95DE-1415EED7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7A6-198F-4704-AF9B-4D3FC18D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07D-EF0A-41AD-8A35-23C721D7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67B-8392-4816-B5DF-EA13D7A4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011-3869-4718-815E-18639D5A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E13-848E-41DE-B9A5-F1402E08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BB6-E9AD-4BE2-A7D7-B3740BA1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B82-20A6-4FF5-ABF2-6A432462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B6E-2015-474A-8767-EC23663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5C5-AFCF-4FAC-B762-9A74D0E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03D-A06E-48F0-90E0-BA65212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1DE-CD50-415E-B27E-4B49ADA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C8F0-CA93-4F5D-9F95-90B786B3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7.xml"/><Relationship Id="rId34" Type="http://schemas.openxmlformats.org/officeDocument/2006/relationships/slide" Target="slide37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" Target="slide41.xml"/><Relationship Id="rId39" Type="http://schemas.openxmlformats.org/officeDocument/2006/relationships/slide" Target="slide43.xml"/><Relationship Id="rId40" Type="http://schemas.openxmlformats.org/officeDocument/2006/relationships/slide" Target="slide43.xml"/><Relationship Id="rId41" Type="http://schemas.openxmlformats.org/officeDocument/2006/relationships/slide" Target="slide45.xml"/><Relationship Id="rId42" Type="http://schemas.openxmlformats.org/officeDocument/2006/relationships/slide" Target="slide45.xml"/><Relationship Id="rId43" Type="http://schemas.openxmlformats.org/officeDocument/2006/relationships/slide" Target="slide45.xml"/><Relationship Id="rId44" Type="http://schemas.openxmlformats.org/officeDocument/2006/relationships/slide" Target="slide47.xml"/><Relationship Id="rId45" Type="http://schemas.openxmlformats.org/officeDocument/2006/relationships/slide" Target="slide49.xml"/><Relationship Id="rId46" Type="http://schemas.openxmlformats.org/officeDocument/2006/relationships/slide" Target="slide49.xml"/><Relationship Id="rId47" Type="http://schemas.openxmlformats.org/officeDocument/2006/relationships/slide" Target="slide3.xml"/><Relationship Id="rId48" Type="http://schemas.openxmlformats.org/officeDocument/2006/relationships/image" Target="../media/image1.jpeg"/><Relationship Id="rId49" Type="http://schemas.openxmlformats.org/officeDocument/2006/relationships/slide" Target="slide51.xml"/><Relationship Id="rId50" Type="http://schemas.openxmlformats.org/officeDocument/2006/relationships/slide" Target="slide51.xml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Mrs. Christens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Pres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057400" y="3581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opardy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nitrus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type of larceny where a building is entered without permis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urgla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 serious crime that is punishable by confinement in a state prison or a large f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elon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95280" y="1431720"/>
            <a:ext cx="6324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Obscenity is a crime again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decenc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 serious crime that is punishable by confinement in a county or city ja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misdemean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Lying under o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4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siness Re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 C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pour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1"/>
          <p:cNvSpPr/>
          <p:nvPr/>
        </p:nvSpPr>
        <p:spPr>
          <a:xfrm>
            <a:off x="0" y="1149480"/>
            <a:ext cx="91440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3"/>
          <p:cNvSpPr/>
          <p:nvPr/>
        </p:nvSpPr>
        <p:spPr>
          <a:xfrm>
            <a:off x="7315200" y="6095880"/>
            <a:ext cx="175248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0">
            <a:hlinkClick r:id="rId4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perju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lesser misdemeanor where the defendant cannot be jail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infract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95280" y="456120"/>
            <a:ext cx="632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crime against an individual but not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ivil offens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unishable offense against socie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crim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295280" y="334440"/>
            <a:ext cx="63248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riminal intent means the defendant intended to do </a:t>
            </a:r>
            <a:r>
              <a:rPr b="0" lang="en-US" sz="8800" spc="-1" strike="noStrike">
                <a:solidFill>
                  <a:srgbClr val="2626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evil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The age, under early common law, that was below the age of reas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6204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nother name for business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7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age of criminal liability in most st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8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95280" y="155340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person who receives stolen proper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fenc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1295280" y="1188360"/>
            <a:ext cx="632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n agreement between two or more persons to commit a cri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a conspiracy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mallest fine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$1,000.00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he shortest jail term for committing a fe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white-collar cr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0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1 yea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295280" y="913320"/>
            <a:ext cx="6324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doctrine that holds corporate officers responsible for employee cri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vicarious criminal liabilit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685800" y="3133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1905120" y="18288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Freedom of speech </a:t>
            </a:r>
            <a:br>
              <a:rPr sz="2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1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95280" y="17370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events the government from violating privacy searches and seizure(arres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4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95280" y="18277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ights of Accused in Criminal Prosecu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6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1680" y="1141920"/>
            <a:ext cx="788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 double jeopardy, no one can be tried for the same trial twice, right to remain silent when question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295280" y="685440"/>
            <a:ext cx="6324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a person obtains money by lying about a past or exiting fa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5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210204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Right to bear ar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e 2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685800" y="2040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false pretenses?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295280" y="182880"/>
            <a:ext cx="6324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 crime where money is offered to influence the performance of an offici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2588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bribe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100476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 type of law that forbids competing price fix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/Eleanor Savko</dc:creator>
  <dc:description/>
  <dc:language>en-US</dc:language>
  <cp:lastModifiedBy>Linda Christensen</cp:lastModifiedBy>
  <dcterms:modified xsi:type="dcterms:W3CDTF">2012-10-11T15:18:58Z</dcterms:modified>
  <cp:revision>60</cp:revision>
  <dc:subject>Jeopardy</dc:subject>
  <dc:title>Math 5A</dc:title>
</cp:coreProperties>
</file>